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EB91-2669-4F76-922D-AAFCF81CD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52F4-D875-49EC-A555-036025445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CBEF-C4ED-4FA1-B51D-CD8EAF945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B817-B71E-4BBF-A240-721EB2CAB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89EE-4949-490D-A205-E66D88796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2E7A-3E58-456F-B233-235C611B94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49CE-529D-435C-8FE0-22FDDC1ECC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C59C-ED04-4757-9589-B66283206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5B17-E5DB-4C94-B7A6-D4FD24BA6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9101-957D-4941-AF6F-425863D79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082B-5E89-4A19-9633-9B521383D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202C-17BB-4B2D-A8B2-2E41BFC2A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8D3E-E977-4D5C-925D-64526F780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914C-29FD-4BF6-B644-15E6FADDF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C5CC-700B-41FA-BA14-E9B8E1E49A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 Ringer: 10-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itle of the leader of Ancient Egypt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monument that most of these people are buried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most of these monuments located at in Ancient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7462800" y="624528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D9D3-4BC1-4558-ACAF-7C67467253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17: If kids rule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18: Pharaoh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A805-C7CF-45FC-A7CE-487263DDA8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Papyrus"/>
                <a:ea typeface="Papyrus"/>
              </a:rPr>
              <a:t>Responsibility</a:t>
            </a:r>
            <a:r>
              <a:rPr b="0" lang="en-US" sz="4400" spc="-1" strike="noStrike">
                <a:solidFill>
                  <a:srgbClr val="975500"/>
                </a:solidFill>
                <a:latin typeface="Papyrus"/>
                <a:ea typeface="Papyr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kings of Egy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absolute power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The Pharaoh</a:t>
            </a: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 owned-land, people, and possessions in Egy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Any King that attempted to radically change society would be seen as destroying the equilibrium that was so important to Egyptian tra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 Bold"/>
                <a:ea typeface="Arial Bold"/>
              </a:rPr>
              <a:t>eldest son born of the Que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The Pharaoh owned-land, people, and possessions in Egy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Any personal wealth enjoyed by Egyptians people was considered a result of the generosity of the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500"/>
                </a:solidFill>
                <a:latin typeface="Papyrus"/>
                <a:ea typeface="Papyrus"/>
              </a:rPr>
              <a:t>M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Founder- 1</a:t>
            </a:r>
            <a:r>
              <a:rPr b="0" lang="en-US" sz="2800" spc="-1" strike="noStrike" baseline="30000">
                <a:solidFill>
                  <a:srgbClr val="d90b00"/>
                </a:solidFill>
                <a:latin typeface="Arial Bold"/>
                <a:ea typeface="Arial Bold"/>
              </a:rPr>
              <a:t>st</a:t>
            </a: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 Dyna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Ruled-3100-2850 B.C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800"/>
                </a:solidFill>
                <a:latin typeface="Arial Bold"/>
                <a:ea typeface="Arial Bold"/>
              </a:rPr>
              <a:t>First- to make upper and lower Egypt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He created the city of Memphis because of its good location. It would be easy top defend against any atta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He expanded his kingdom and developed commercial trade l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659640" y="0"/>
            <a:ext cx="2327040" cy="2462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881856" presetSubtype="299523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500"/>
                </a:solidFill>
                <a:latin typeface="Papyrus"/>
                <a:ea typeface="Papyrus"/>
              </a:rPr>
              <a:t>Akena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Original name was Amonhotep 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Reigned 1350-1334 B.C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King Tuts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He wanted to change the Egyptian supreme god from Amon-Re to A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Therefore he changed his name to Akenaton which means “he who serves At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New city called Akheta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He was the first to try and change Egyptian reli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Remembered for trying to introduce monothe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732720" y="0"/>
            <a:ext cx="2122200" cy="28414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7100"/>
                </a:solidFill>
                <a:latin typeface="Papyrus"/>
                <a:ea typeface="Papyrus"/>
              </a:rPr>
              <a:t>Ram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7273800" cy="5229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Went to the throne at the age of 20 and reigned for 67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This was the second longest reign for any Egyptian King</a:t>
            </a:r>
            <a:r>
              <a:rPr b="0" lang="en-US" sz="2400" spc="-1" strike="noStrike">
                <a:solidFill>
                  <a:srgbClr val="ff0000"/>
                </a:solidFill>
                <a:latin typeface="Arial Bold"/>
                <a:ea typeface="Arial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old"/>
                <a:ea typeface="Arial Bold"/>
              </a:rPr>
              <a:t>Constructing many architectural mar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Built more statues than any other Egyptian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Monument- huge temples at Abu Simb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Ramses had over 100 childr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7493040" y="189000"/>
            <a:ext cx="1650960" cy="2235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7124760" y="3641760"/>
            <a:ext cx="2376360" cy="1655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7100"/>
                </a:solidFill>
                <a:latin typeface="Papyrus"/>
                <a:ea typeface="Papyrus"/>
              </a:rPr>
              <a:t>Khuf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3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Khufu lived from</a:t>
            </a: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 2589-2566 B.C.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He </a:t>
            </a: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reigned=24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Khufu is </a:t>
            </a: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most remembered for building Great Pyramid of Gi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The pyramid originally stood </a:t>
            </a: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481 feet t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Khufu had many sons but the one chosen to be his successor was Djedef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Mounement- Great Pyramid and even today it’s still a mystery to how it was bui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405480" y="-330120"/>
            <a:ext cx="2586240" cy="260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3203640" y="5157720"/>
            <a:ext cx="2736720" cy="1562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cp:keywords/>
  <dc:language>en-US</dc:language>
  <cp:lastModifiedBy>Tyler Daughtry</cp:lastModifiedBy>
  <cp:lastPrinted>2013-10-09T12:39:51Z</cp:lastPrinted>
  <dcterms:modified xsi:type="dcterms:W3CDTF">2013-10-09T12:47:31Z</dcterms:modified>
  <cp:revision>7</cp:revision>
  <dc:subject/>
  <dc:title>Pharaohs of Egypt</dc:title>
</cp:coreProperties>
</file>